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8A0-2377-45F0-85A2-A97F09FC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A83-1FA7-4578-9E7F-17F0CB7D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A193F-5B89-44F1-B518-AC4D996C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3EF5A-CC0E-4F0B-B053-18998954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E5361-44D6-4B60-B93D-3FFFCDC1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92D65-B894-45D8-9875-F5165CAB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81ADB-9372-4646-B683-2F8039AD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8E667-2ADB-4B68-BF6D-F6491F75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0F4A4-DDC3-4DA2-9EF9-9C39B6DD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9C820-8380-4ABD-A8F0-68B892B7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D08F8-A20F-4835-9BFC-0DA8F2C6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DEDEB-49B4-4DD6-886C-C319303A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C1E-365E-4747-B4BE-5E2EE62A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2B03C-4861-4F20-8627-D9FD610B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B7AE2-56ED-4B8D-BEB3-53C63881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4E3E5-7516-4F2C-910D-627554CA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3CB91-13F0-4B2F-A3F3-42427F65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D6788-9660-4290-92C9-BF0A918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E62B7-E95C-490B-86AE-476AAD89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22262-ABE7-497E-B0C5-DDCF0D39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4546D-9433-4532-974C-5652531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63E39-D8D9-4261-88FE-2C83FE29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1AF97-FBEC-42D0-82CF-C7A5302C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FE6-C1AD-4706-A9D6-8D8EC597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F8C31-EC79-489E-A53A-31499F90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A9158-C912-4859-9536-45415EFD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22400-616B-4827-9A38-0F4CF272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EC184-5AF4-4EE6-9AEA-F45E84F2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C3C87-BC0B-47B9-92AB-15381CB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2A71D-85B3-488C-B580-ECDA1500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40B15-7C18-4864-8451-5CE20ACC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95465-A918-4E71-B80F-A759964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4D787-4BC4-498B-AED6-2169310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1FD78-703E-44E0-BA1E-7E519674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E010-3481-48AA-B791-1FC1DDB5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17C7E-3CD3-418E-800B-C8FC71F9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8A27B-B3E7-4623-93D5-ED4DE748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B008B-E83F-4548-8953-891B9AB1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2BACA-9562-4934-975E-8632935B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1DD76-5096-415A-95BD-F34B3D97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58C93-3539-4284-A7EB-E8137767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B7A8F-2FB9-4A37-9677-54A7E4BE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92AEB-4A77-462E-9C7E-1937F61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2AAA3-D60D-42F5-B650-2A17D8CF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9AAFA-7265-49AF-9C10-22E70D44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D3AF-E62D-48C9-B25A-3BE56D4F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C3059-2BC9-4441-903D-5DE64FF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DAEA9-8BAE-45F4-8409-71048441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3A745-64D1-4BB8-B28B-3479C44F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2B319-459A-4288-892D-086AA839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7462E-F6F1-4FDE-BC87-E5F6F76F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7651-9566-4DD5-910B-1C68FA0E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AE53-84EF-454C-8059-501756FB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E51A-6C43-4141-94F1-47810961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BF5A-1B39-47FF-AFA8-4056EE29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AFB5-C8C7-4B22-9A29-0AB09457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466-6859-4689-BE03-E7D83BD6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3A4B-51EB-4CF1-B63E-10B5FB2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E991-1B3A-40CC-BBD8-A70D360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DD4F-6181-4CE9-A5EC-AD0AC749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E77A-3BA0-4D0F-A6F7-2D2DE8ED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0F00-E8F0-42B3-BA3A-9DFD6049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655E-D7CB-4213-9D50-6B7B394E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4E08-FBAD-448E-B8CF-086FEDE5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DF5C-C34A-4A80-9E87-D42EAB37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EF573-2275-47DB-BED5-76D74EB8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07D7-8516-4472-84BF-8C6775CC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8FB-F656-4751-BD4A-629DEA49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3C8D-FDC9-4633-90FA-7D3A65F8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1439-F1CE-47D6-A9E3-608764D8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E802-4A71-46A2-9C77-F75E27C0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3661-1BB9-45B2-9C21-BC53D31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DCCC-138A-4F55-9EEC-DCABD6A8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B01B-E98E-4B77-88BD-C40B3E11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2F15-8D94-4585-A0DD-33029E73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4D7CA-855F-4952-9E72-A53E9AD6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25430-85E3-466E-8640-64AA2580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9FE1-3386-4BF6-8D43-F92DA26E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090-6D84-41D7-AD8F-6B256856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AB50-D46B-4F07-B7B5-A78CCA3E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2A9A-38A9-448F-86FA-95E6064A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5815F-D6FC-4297-B30B-925C245E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9184C-DC54-4B7E-82B8-A704AF63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EBE9F-9DFE-4D5F-B872-9FFDDE53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14887-6413-4CCC-9C38-2A5255C4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EF82-43BD-4E9C-B56F-95F6C200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08F1-7B46-4A45-B7C6-B029F163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EF28D-99B9-4E8C-B3E0-8BDCA598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6517B-C966-4CA6-A885-2BCB4C69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B46-D816-40D6-8E2B-578074FD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3743-4D28-4201-AE2F-32C4158D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AF26F-67B0-491D-BF95-C247AA13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3555B-1AFA-440C-BCC6-DD35F683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396CD-85F4-411E-A4E2-8FA96779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A973-0A2F-4DF7-9F6F-F2EC42E9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88575-3849-4482-9592-9090891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3B528-77EF-4F8C-BCF3-919477E2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91C25-5C08-46E5-83F6-F6FB98CB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D5FCD-CCF4-425A-9E83-C9A7A740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8FB3F-1AAF-4DA4-ADC7-BE719ED6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EE1-8B68-4217-9F17-C3DB990C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0858E-181C-40D3-8AF3-1ACBBAA9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D7AAB-BD52-4745-A1C1-3E191A74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C6E00-03E4-4B00-B6AD-48FE367F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457D7-AC98-4D61-B239-5D8E0B92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50491-D051-4DA6-898D-66E6D995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E6C2F-DA13-4258-8499-92500D39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EAA0E-5C7F-4D50-9D0D-16ABB5A9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B50F8-2944-4794-BA77-C3F9F0FE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8DA89-2980-4145-B07B-D3CF0E99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6B09-1817-4A34-9A8C-A28AEF8E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40A-4ACF-499F-907A-FFDFC5D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94F29-0107-449A-8BE8-685EFE77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3E235-9C6E-4BF8-A35F-216986FF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66DF7-C706-4B82-BD1D-C6919921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FCF3E-FD85-405E-94A8-6795707D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1386D-DDE8-460E-9948-AAA29DEB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77B2B-CB3C-4310-91DD-CC92A20A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CF5BD-F564-4B51-BD29-F1CDAEE5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65F60-A67F-4AB2-A785-5BA4C430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2DA3D-24B0-4EA3-98D8-8AB07141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19049-6E12-4574-BA95-2728CCD0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82B-1EA4-4922-AD07-77418FA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C986D-1DF5-4CC4-B9FB-67BFB63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AF92A-DA1D-42DD-B85A-76DB754B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81F96-722C-4CC1-8D3C-7E1F6BC0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4AF86-C135-414E-83EF-85D7859B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58BE4-205F-48DD-9EF0-1B293F8F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5A3D-F1CF-47C9-8D5E-DAD43B91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4DB19-177E-4407-AE9A-8FEF2BB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BB423-CF0D-499D-9344-5ECABD28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DD5AD-B937-44E6-ADBB-264AACD7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F20A7-C4AC-4C02-B702-49E368F0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551-3B2F-40D8-8F30-AAD8ABE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780CC-D073-4D2A-8A8D-E9022017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D69BC-889D-4F35-95A4-362F98AE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ADCD2-1418-4062-B65E-FA531183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AD8AF-270D-48F1-AA4F-B966F93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01D1-FF8C-48B7-A02E-FF7C1753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3C19F-39C1-4971-AF6C-8926D509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050C-600A-4FD9-BD0B-5C55ECF5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6C437-9273-4E13-9BF5-BB91EBDB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422A6-54D2-4385-AE2F-C32C214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9718F-14C3-4C58-80C8-70D3579A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7C51-4B7B-44ED-B5BB-51338B96A4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3AFD-3FBD-4FE6-895A-434D7D1405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1BC-F773-4760-BDD8-51C653409B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BF54-880E-4BF8-936E-FC7ED95DE7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49F1-4BB9-48BA-9719-ECDF15CCC6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8941-61A3-41C3-B05E-DBD011B17B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BB54-9351-4EB1-AE95-82AD87159D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B0E2-ACB6-4948-B972-D646DED4BF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86A4-C90D-4F9A-8C3B-A2C7AFC7EC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B1BB-C102-4097-A7EB-E2834C5758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EEDC-05AD-46A6-BED0-56E996A345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144A-0858-43F0-9F0F-14D83D158C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2 V blízkosti Spasiteľov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život služby žiť chc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tý a bezpečný môž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iba u neho,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žim byť, on je môj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život zasvätím jem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voje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ám strach z odlúč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mi dávajú je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herné zasľúb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žim byť, on je môj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život zasvätím jem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voje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ímam milosti dar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šad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chce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ňo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zves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šíri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44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dá práci tej z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žim byť, on je môj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život zasvätím jem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voje srdce mu 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3T15:53:19Z</dcterms:modified>
  <cp:revision>21</cp:revision>
  <dc:subject/>
  <dc:title>Je veľký náš Pán, on slávy je Kráľ Nech do všetkých strán  spev vrúcnych znie chvál.</dc:title>
</cp:coreProperties>
</file>